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9.gif" ContentType="image/gif"/>
  <Override PartName="/ppt/media/image12.gif" ContentType="image/gif"/>
  <Override PartName="/ppt/media/image3.jpeg" ContentType="image/jpeg"/>
  <Override PartName="/ppt/media/image7.gif" ContentType="image/gif"/>
  <Override PartName="/ppt/media/image17.gif" ContentType="image/gif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11.png" ContentType="image/png"/>
  <Override PartName="/ppt/media/image4.jpeg" ContentType="image/jpeg"/>
  <Override PartName="/ppt/media/image8.gif" ContentType="image/gif"/>
  <Override PartName="/ppt/media/image18.jpeg" ContentType="image/jpeg"/>
  <Override PartName="/ppt/media/image2.gif" ContentType="image/gif"/>
  <Override PartName="/ppt/media/image5.png" ContentType="image/png"/>
  <Override PartName="/ppt/media/image10.png" ContentType="image/png"/>
  <Override PartName="/ppt/media/image6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04C46-9ADD-42DF-86E7-D6C031B2B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7689D-430C-4127-8D0A-D3DD2EB6D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A1CE3-5120-4DC6-91C7-DA6026663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91FF7-B7F5-4410-8486-DB14B36E5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3B63F-C850-4522-AAA0-0B47D007A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1463F-1BF3-469B-961A-280B462D5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46561-D453-4F2E-AC06-54830E85D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9002D-7572-4E1A-9E9A-7508E5E29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68308-35BB-4EC3-986E-C8B8F877C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D1403-2092-4C66-9755-1B62AD176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1D74F-5922-4759-9AB7-F94EA39E9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1F002-836A-45DE-9101-C47800E1B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38E09-B3FC-4959-ADCC-288A9D90B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2CD0D-5733-4160-8C10-CEBD4AD07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0998D-DD31-4D5F-9D8E-73F2DD5C7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B896C-10CB-4851-B2A9-B6EF8BE42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37C19-70C9-4C23-9486-7C6AD6D25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BC899-ECB2-4684-A1B0-688B18FCA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8FF52-CB9B-4A6F-89F3-4740BFAA4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01BA8-DFEB-43E8-8078-89EC14FE4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A89EB-E7BC-4C8E-AE9A-F7C0ABD53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57DBE-AE7B-43F8-B6B5-0D2AC1EC3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89887-224D-4B8E-9239-FECE0D820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9E9EC-100D-4091-B361-2E57D86EB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1" name="Rectangle 3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AD488-8B26-4211-8F8D-08C5379A6D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51" name="Rectangle 3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7" name="Freeform 9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56C90-D69C-4454-B2DD-49F5F627921F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hyperlink" Target="http://www.iconbazaar.com/objects/animated/pg15/img01.html" TargetMode="External"/><Relationship Id="rId3" Type="http://schemas.openxmlformats.org/officeDocument/2006/relationships/image" Target="../media/image9.gif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handel.mid" descr=""/>
          <p:cNvPicPr/>
          <p:nvPr/>
        </p:nvPicPr>
        <p:blipFill>
          <a:blip r:embed="rId1"/>
          <a:stretch/>
        </p:blipFill>
        <p:spPr>
          <a:xfrm>
            <a:off x="4267080" y="48769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2"/>
          <p:cNvSpPr/>
          <p:nvPr/>
        </p:nvSpPr>
        <p:spPr>
          <a:xfrm>
            <a:off x="612720" y="304920"/>
            <a:ext cx="80247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Elephant"/>
              </a:rPr>
              <a:t>Age of Reason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Elephant"/>
              </a:rPr>
              <a:t>or the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Elephant"/>
              </a:rPr>
              <a:t>“</a:t>
            </a:r>
            <a:r>
              <a:rPr b="0" lang="en-US" sz="6000" spc="-1" strike="noStrike">
                <a:solidFill>
                  <a:srgbClr val="ffffcc"/>
                </a:solidFill>
                <a:latin typeface="Elephant"/>
              </a:rPr>
              <a:t>The  Enlightenment”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02" name="Picture 3" descr="j0234746"/>
          <p:cNvPicPr/>
          <p:nvPr/>
        </p:nvPicPr>
        <p:blipFill>
          <a:blip r:embed="rId2"/>
          <a:stretch/>
        </p:blipFill>
        <p:spPr>
          <a:xfrm>
            <a:off x="3505320" y="3352680"/>
            <a:ext cx="1904760" cy="190512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5"/>
          <p:cNvSpPr/>
          <p:nvPr/>
        </p:nvSpPr>
        <p:spPr>
          <a:xfrm>
            <a:off x="990720" y="5562720"/>
            <a:ext cx="779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Trebuchet MS"/>
              </a:rPr>
              <a:t>The motto of the Enlightenment was "aude sapere" or dare to think. (Immanual Kant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34322" fill="hold"/>
                                        <p:tgtEl>
                                          <p:spTgt spid="1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Practice – Jan 2013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  <a:ea typeface="Arial"/>
              </a:rPr>
              <a:t>Which idea is central to John Locke’s </a:t>
            </a:r>
            <a:r>
              <a:rPr b="0" i="1" lang="en-US" sz="2400" spc="-1" strike="noStrike">
                <a:solidFill>
                  <a:srgbClr val="ffffcc"/>
                </a:solidFill>
                <a:latin typeface="Arial"/>
                <a:ea typeface="Arial"/>
              </a:rPr>
              <a:t>Two Treatises of Government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  <a:ea typeface="Arial"/>
              </a:rPr>
              <a:t>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  <a:ea typeface="Arial"/>
              </a:rPr>
              <a:t>(1) A government’s power comes from the consent of the people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  <a:ea typeface="Arial"/>
              </a:rPr>
              <a:t>(2) Predestination will determine who will go to heaven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  <a:ea typeface="Arial"/>
              </a:rPr>
              <a:t>(3) Famine, disease, and conflict are natural checks on population growth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  <a:ea typeface="Arial"/>
              </a:rPr>
              <a:t>(4) The have-nots will rise up and overthrow the government of the have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Practice – August 2012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1980720"/>
            <a:ext cx="81532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  <a:ea typeface="Arial"/>
              </a:rPr>
              <a:t>Which statement represents a key idea directl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  <a:ea typeface="Arial"/>
              </a:rPr>
              <a:t>associated with John Locke’s Two Treatises of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  <a:ea typeface="Arial"/>
              </a:rPr>
              <a:t>Government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  <a:ea typeface="Arial"/>
              </a:rPr>
              <a:t>(1) Freedom of speech should be denied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  <a:ea typeface="Arial"/>
              </a:rPr>
              <a:t>(2) The king’s power on Earth comes from God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  <a:ea typeface="Arial"/>
              </a:rPr>
              <a:t>(3) All people are born with the right to life, liberty, and property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  <a:ea typeface="Arial"/>
              </a:rPr>
              <a:t>(4) Individuals acting in their own self-interes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  <a:ea typeface="Arial"/>
              </a:rPr>
              <a:t>will achieve economic succes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Impact"/>
              </a:rPr>
              <a:t>Montesquieu</a:t>
            </a:r>
            <a:br>
              <a:rPr sz="4000"/>
            </a:br>
            <a:r>
              <a:rPr b="0" lang="en-US" sz="4000" spc="-1" strike="noStrike">
                <a:solidFill>
                  <a:srgbClr val="ffcc00"/>
                </a:solidFill>
                <a:latin typeface="Impact"/>
              </a:rPr>
              <a:t>(1689-1755)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Admired English system that divided power into </a:t>
            </a:r>
            <a:r>
              <a:rPr b="1" lang="en-US" sz="2800" spc="-1" strike="noStrike">
                <a:solidFill>
                  <a:srgbClr val="ffff9e"/>
                </a:solidFill>
                <a:latin typeface="Arial"/>
              </a:rPr>
              <a:t>branches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4" marL="2209680" indent="-3808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executiv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4" marL="2209680" indent="-3808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legislativ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4" marL="2209680" indent="-3808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judicia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46" name="Picture 8" descr="j0162997"/>
          <p:cNvPicPr/>
          <p:nvPr/>
        </p:nvPicPr>
        <p:blipFill>
          <a:blip r:embed="rId1"/>
          <a:stretch/>
        </p:blipFill>
        <p:spPr>
          <a:xfrm>
            <a:off x="5838840" y="3719520"/>
            <a:ext cx="2390760" cy="197640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 txBox="1"/>
          <p:nvPr/>
        </p:nvSpPr>
        <p:spPr>
          <a:xfrm>
            <a:off x="4647960" y="1981080"/>
            <a:ext cx="380988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8" name="AutoShape 11"/>
          <p:cNvSpPr/>
          <p:nvPr/>
        </p:nvSpPr>
        <p:spPr>
          <a:xfrm>
            <a:off x="685800" y="609480"/>
            <a:ext cx="914400" cy="990720"/>
          </a:xfrm>
          <a:custGeom>
            <a:avLst/>
            <a:gdLst/>
            <a:ahLst/>
            <a:rect l="l" t="t" r="r" b="b"/>
            <a:pathLst>
              <a:path w="914400" h="990600">
                <a:moveTo>
                  <a:pt x="1" y="378375"/>
                </a:moveTo>
                <a:lnTo>
                  <a:pt x="349272" y="378377"/>
                </a:lnTo>
                <a:lnTo>
                  <a:pt x="457200" y="0"/>
                </a:lnTo>
                <a:lnTo>
                  <a:pt x="565128" y="378377"/>
                </a:lnTo>
                <a:lnTo>
                  <a:pt x="914399" y="378375"/>
                </a:lnTo>
                <a:lnTo>
                  <a:pt x="631832" y="612222"/>
                </a:lnTo>
                <a:lnTo>
                  <a:pt x="739765" y="990597"/>
                </a:lnTo>
                <a:lnTo>
                  <a:pt x="457200" y="756746"/>
                </a:lnTo>
                <a:lnTo>
                  <a:pt x="174635" y="990597"/>
                </a:lnTo>
                <a:lnTo>
                  <a:pt x="282568" y="612222"/>
                </a:lnTo>
                <a:lnTo>
                  <a:pt x="1" y="378375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" nodeType="after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3" nodeType="after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5" descr="voltaire"/>
          <p:cNvPicPr/>
          <p:nvPr/>
        </p:nvPicPr>
        <p:blipFill>
          <a:blip r:embed="rId1"/>
          <a:stretch/>
        </p:blipFill>
        <p:spPr>
          <a:xfrm>
            <a:off x="6248520" y="609480"/>
            <a:ext cx="2057400" cy="283860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Impact"/>
              </a:rPr>
              <a:t>Voltaire</a:t>
            </a:r>
            <a:br>
              <a:rPr sz="4000"/>
            </a:br>
            <a:r>
              <a:rPr b="0" lang="en-US" sz="4000" spc="-1" strike="noStrike">
                <a:solidFill>
                  <a:srgbClr val="ffcc00"/>
                </a:solidFill>
                <a:latin typeface="Impact"/>
              </a:rPr>
              <a:t>(1694-1778)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5943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Liked Locke’s natural rights – but felt few people capable of governing self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Best government ruled by good king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9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e"/>
                </a:solidFill>
                <a:latin typeface="Arial"/>
              </a:rPr>
              <a:t>Deist</a:t>
            </a:r>
            <a:r>
              <a:rPr b="0" lang="en-US" sz="2400" spc="-1" strike="noStrike">
                <a:solidFill>
                  <a:srgbClr val="ffff9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– universe had planned order discoverable by reason.  God was divine clockmaker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2" name="AutoShape 4"/>
          <p:cNvSpPr/>
          <p:nvPr/>
        </p:nvSpPr>
        <p:spPr>
          <a:xfrm rot="666000">
            <a:off x="4692240" y="3507840"/>
            <a:ext cx="4343400" cy="1752840"/>
          </a:xfrm>
          <a:prstGeom prst="wedgeRoundRectCallout">
            <a:avLst>
              <a:gd name="adj1" fmla="val -80421"/>
              <a:gd name="adj2" fmla="val -54277"/>
              <a:gd name="adj3" fmla="val 16667"/>
            </a:avLst>
          </a:prstGeom>
          <a:solidFill>
            <a:srgbClr val="00ff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20011"/>
                </a:solidFill>
                <a:latin typeface="Arial"/>
              </a:rPr>
              <a:t>Which governmental system did Voltaire </a:t>
            </a:r>
            <a:r>
              <a:rPr b="1" lang="en-US" sz="2800" spc="-1" strike="noStrike" u="sng">
                <a:solidFill>
                  <a:srgbClr val="220011"/>
                </a:solidFill>
                <a:uFillTx/>
                <a:latin typeface="Arial"/>
              </a:rPr>
              <a:t>not</a:t>
            </a:r>
            <a:r>
              <a:rPr b="1" lang="en-US" sz="2800" spc="-1" strike="noStrike">
                <a:solidFill>
                  <a:srgbClr val="220011"/>
                </a:solidFill>
                <a:latin typeface="Arial"/>
              </a:rPr>
              <a:t> like?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0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55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8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2" descr="http://www.posterenvy.com/catalog/ss084thumb%20-%20Voltaire.jpg"/>
          <p:cNvPicPr/>
          <p:nvPr/>
        </p:nvPicPr>
        <p:blipFill>
          <a:blip r:embed="rId1"/>
          <a:stretch/>
        </p:blipFill>
        <p:spPr>
          <a:xfrm>
            <a:off x="1066680" y="404640"/>
            <a:ext cx="3848400" cy="5715000"/>
          </a:xfrm>
          <a:prstGeom prst="rect">
            <a:avLst/>
          </a:prstGeom>
          <a:ln w="0">
            <a:noFill/>
          </a:ln>
        </p:spPr>
      </p:pic>
      <p:sp>
        <p:nvSpPr>
          <p:cNvPr id="154" name="TextBox 1"/>
          <p:cNvSpPr/>
          <p:nvPr/>
        </p:nvSpPr>
        <p:spPr>
          <a:xfrm>
            <a:off x="5638680" y="838080"/>
            <a:ext cx="28958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  <a:ea typeface="Arial"/>
              </a:rPr>
              <a:t>He believed that </a:t>
            </a:r>
            <a:r>
              <a:rPr b="0" lang="en-US" sz="2400" spc="-1" strike="noStrike">
                <a:solidFill>
                  <a:srgbClr val="ffff9e"/>
                </a:solidFill>
                <a:latin typeface="Arial"/>
                <a:ea typeface="Arial"/>
              </a:rPr>
              <a:t>freedom of speech 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  <a:ea typeface="Arial"/>
              </a:rPr>
              <a:t>was the best weapon against bad government. He also spoke out against the corruption of the French government, and the intolerance of the Catholic Church.</a:t>
            </a:r>
            <a:br>
              <a:rPr sz="2400"/>
            </a:b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6324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  <a:ea typeface="Arial"/>
              </a:rPr>
              <a:t>Voltaire was forced to flee Paris and take refuge at Cirey in 1734 after the publication of "Philosophic Letters"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57" name="Picture 10" descr="http://www.guide2rhonealpes.com/uploads/info/large/210611183935--536842_chateau-de-voltaire-a-ferney.jpg"/>
          <p:cNvPicPr/>
          <p:nvPr/>
        </p:nvPicPr>
        <p:blipFill>
          <a:blip r:embed="rId1"/>
          <a:stretch/>
        </p:blipFill>
        <p:spPr>
          <a:xfrm>
            <a:off x="1143000" y="2209680"/>
            <a:ext cx="6400800" cy="427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Impact"/>
              </a:rPr>
              <a:t>Rousseau</a:t>
            </a:r>
            <a:br>
              <a:rPr sz="4000"/>
            </a:br>
            <a:r>
              <a:rPr b="0" lang="en-US" sz="4000" spc="-1" strike="noStrike">
                <a:solidFill>
                  <a:srgbClr val="ffcc00"/>
                </a:solidFill>
                <a:latin typeface="Impact"/>
              </a:rPr>
              <a:t>Swiss</a:t>
            </a:r>
            <a:br>
              <a:rPr sz="4000"/>
            </a:br>
            <a:r>
              <a:rPr b="0" lang="en-US" sz="4000" spc="-1" strike="noStrike">
                <a:solidFill>
                  <a:srgbClr val="ffcc00"/>
                </a:solidFill>
                <a:latin typeface="Impact"/>
              </a:rPr>
              <a:t>(1712-1778)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520" y="2743200"/>
            <a:ext cx="7696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Book – </a:t>
            </a:r>
            <a:r>
              <a:rPr b="1" i="1" lang="en-US" sz="2800" spc="-1" strike="noStrike">
                <a:solidFill>
                  <a:srgbClr val="ffff9e"/>
                </a:solidFill>
                <a:latin typeface="Arial"/>
              </a:rPr>
              <a:t>The Social Contract</a:t>
            </a:r>
            <a:r>
              <a:rPr b="0" lang="en-US" sz="2800" spc="-1" strike="noStrike">
                <a:solidFill>
                  <a:srgbClr val="ffff9e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–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agreed with Hobbes:  man needs government, need to give up some freedom for members of society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Main problem is inequality of wealth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Political decisions should reflect general will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" name="AutoShape 4"/>
          <p:cNvSpPr/>
          <p:nvPr/>
        </p:nvSpPr>
        <p:spPr>
          <a:xfrm>
            <a:off x="3657600" y="5486400"/>
            <a:ext cx="4648320" cy="1371600"/>
          </a:xfrm>
          <a:prstGeom prst="cloudCallout">
            <a:avLst>
              <a:gd name="adj1" fmla="val -63592"/>
              <a:gd name="adj2" fmla="val -36111"/>
            </a:avLst>
          </a:prstGeom>
          <a:solidFill>
            <a:srgbClr val="ffcfe7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0011"/>
                </a:solidFill>
                <a:latin typeface="Arial"/>
              </a:rPr>
              <a:t>What political group liked Rousseau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61" name="Picture 5" descr="Jean Jacques Rousseau"/>
          <p:cNvPicPr/>
          <p:nvPr/>
        </p:nvPicPr>
        <p:blipFill>
          <a:blip r:embed="rId1"/>
          <a:stretch/>
        </p:blipFill>
        <p:spPr>
          <a:xfrm>
            <a:off x="6477120" y="228600"/>
            <a:ext cx="241920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5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7" descr="j0309712"/>
          <p:cNvPicPr/>
          <p:nvPr/>
        </p:nvPicPr>
        <p:blipFill>
          <a:blip r:embed="rId1"/>
          <a:stretch/>
        </p:blipFill>
        <p:spPr>
          <a:xfrm>
            <a:off x="6781680" y="1981080"/>
            <a:ext cx="1019160" cy="137160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Impact"/>
              </a:rPr>
              <a:t>Adam Smith</a:t>
            </a:r>
            <a:br>
              <a:rPr sz="4000"/>
            </a:br>
            <a:r>
              <a:rPr b="0" lang="en-US" sz="4000" spc="-1" strike="noStrike">
                <a:solidFill>
                  <a:srgbClr val="ffcc00"/>
                </a:solidFill>
                <a:latin typeface="Impact"/>
              </a:rPr>
              <a:t>(1723-1790)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Economist Wrote – </a:t>
            </a:r>
            <a:r>
              <a:rPr b="1" i="1" lang="en-US" sz="2800" spc="-1" strike="noStrike">
                <a:solidFill>
                  <a:srgbClr val="ffff9e"/>
                </a:solidFill>
                <a:latin typeface="Arial"/>
              </a:rPr>
              <a:t>Wealth of Nations</a:t>
            </a:r>
            <a:r>
              <a:rPr b="0" lang="en-US" sz="2800" spc="-1" strike="noStrike">
                <a:solidFill>
                  <a:srgbClr val="ffff9e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Believed for economic progress the government should impose 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Arial"/>
              </a:rPr>
              <a:t>fewest possible restrictions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5" name="AutoShape 4"/>
          <p:cNvSpPr/>
          <p:nvPr/>
        </p:nvSpPr>
        <p:spPr>
          <a:xfrm>
            <a:off x="2286000" y="4343400"/>
            <a:ext cx="5334120" cy="2286000"/>
          </a:xfrm>
          <a:prstGeom prst="pentagon">
            <a:avLst/>
          </a:prstGeom>
          <a:solidFill>
            <a:srgbClr val="3366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Impact"/>
              </a:rPr>
              <a:t>Laissez-fair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Impact"/>
              </a:rPr>
              <a:t>“</a:t>
            </a:r>
            <a:r>
              <a:rPr b="0" lang="en-US" sz="3600" spc="-1" strike="noStrike">
                <a:solidFill>
                  <a:srgbClr val="ffffcc"/>
                </a:solidFill>
                <a:latin typeface="Impact"/>
              </a:rPr>
              <a:t>leave them alone”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6" name="AutoShape 5"/>
          <p:cNvSpPr/>
          <p:nvPr/>
        </p:nvSpPr>
        <p:spPr>
          <a:xfrm>
            <a:off x="5943600" y="457200"/>
            <a:ext cx="2971800" cy="388620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Which economic system likes this </a:t>
            </a:r>
            <a:r>
              <a:rPr b="0" lang="en-US" sz="2400" spc="-1" strike="noStrike">
                <a:solidFill>
                  <a:srgbClr val="ffff9e"/>
                </a:solidFill>
                <a:latin typeface="Arial"/>
              </a:rPr>
              <a:t>laissez-faire 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approach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7" name="AutoShape 6"/>
          <p:cNvSpPr/>
          <p:nvPr/>
        </p:nvSpPr>
        <p:spPr>
          <a:xfrm>
            <a:off x="228600" y="838080"/>
            <a:ext cx="3124080" cy="3733920"/>
          </a:xfrm>
          <a:prstGeom prst="wedgeEllipseCallout">
            <a:avLst>
              <a:gd name="adj1" fmla="val 48120"/>
              <a:gd name="adj2" fmla="val 64074"/>
            </a:avLst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Which economic system is directly opposed to this approach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8" name="AutoShape 9"/>
          <p:cNvSpPr/>
          <p:nvPr/>
        </p:nvSpPr>
        <p:spPr>
          <a:xfrm>
            <a:off x="228600" y="0"/>
            <a:ext cx="914400" cy="990720"/>
          </a:xfrm>
          <a:custGeom>
            <a:avLst/>
            <a:gdLst/>
            <a:ahLst/>
            <a:rect l="l" t="t" r="r" b="b"/>
            <a:pathLst>
              <a:path w="914400" h="990600">
                <a:moveTo>
                  <a:pt x="1" y="378375"/>
                </a:moveTo>
                <a:lnTo>
                  <a:pt x="349272" y="378377"/>
                </a:lnTo>
                <a:lnTo>
                  <a:pt x="457200" y="0"/>
                </a:lnTo>
                <a:lnTo>
                  <a:pt x="565128" y="378377"/>
                </a:lnTo>
                <a:lnTo>
                  <a:pt x="914399" y="378375"/>
                </a:lnTo>
                <a:lnTo>
                  <a:pt x="631832" y="612222"/>
                </a:lnTo>
                <a:lnTo>
                  <a:pt x="739765" y="990597"/>
                </a:lnTo>
                <a:lnTo>
                  <a:pt x="457200" y="756746"/>
                </a:lnTo>
                <a:lnTo>
                  <a:pt x="174635" y="990597"/>
                </a:lnTo>
                <a:lnTo>
                  <a:pt x="282568" y="612222"/>
                </a:lnTo>
                <a:lnTo>
                  <a:pt x="1" y="378375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9" name="AutoShape 10"/>
          <p:cNvSpPr/>
          <p:nvPr/>
        </p:nvSpPr>
        <p:spPr>
          <a:xfrm>
            <a:off x="1828800" y="304920"/>
            <a:ext cx="914400" cy="990360"/>
          </a:xfrm>
          <a:custGeom>
            <a:avLst/>
            <a:gdLst/>
            <a:ahLst/>
            <a:rect l="l" t="t" r="r" b="b"/>
            <a:pathLst>
              <a:path w="914400" h="990600">
                <a:moveTo>
                  <a:pt x="1" y="378375"/>
                </a:moveTo>
                <a:lnTo>
                  <a:pt x="349272" y="378377"/>
                </a:lnTo>
                <a:lnTo>
                  <a:pt x="457200" y="0"/>
                </a:lnTo>
                <a:lnTo>
                  <a:pt x="565128" y="378377"/>
                </a:lnTo>
                <a:lnTo>
                  <a:pt x="914399" y="378375"/>
                </a:lnTo>
                <a:lnTo>
                  <a:pt x="631832" y="612222"/>
                </a:lnTo>
                <a:lnTo>
                  <a:pt x="739765" y="990597"/>
                </a:lnTo>
                <a:lnTo>
                  <a:pt x="457200" y="756746"/>
                </a:lnTo>
                <a:lnTo>
                  <a:pt x="174635" y="990597"/>
                </a:lnTo>
                <a:lnTo>
                  <a:pt x="282568" y="612222"/>
                </a:lnTo>
                <a:lnTo>
                  <a:pt x="1" y="378375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0" name="AutoShape 11"/>
          <p:cNvSpPr/>
          <p:nvPr/>
        </p:nvSpPr>
        <p:spPr>
          <a:xfrm>
            <a:off x="2209680" y="5105520"/>
            <a:ext cx="914400" cy="990360"/>
          </a:xfrm>
          <a:custGeom>
            <a:avLst/>
            <a:gdLst/>
            <a:ahLst/>
            <a:rect l="l" t="t" r="r" b="b"/>
            <a:pathLst>
              <a:path w="914400" h="990600">
                <a:moveTo>
                  <a:pt x="1" y="378375"/>
                </a:moveTo>
                <a:lnTo>
                  <a:pt x="349272" y="378377"/>
                </a:lnTo>
                <a:lnTo>
                  <a:pt x="457200" y="0"/>
                </a:lnTo>
                <a:lnTo>
                  <a:pt x="565128" y="378377"/>
                </a:lnTo>
                <a:lnTo>
                  <a:pt x="914399" y="378375"/>
                </a:lnTo>
                <a:lnTo>
                  <a:pt x="631832" y="612222"/>
                </a:lnTo>
                <a:lnTo>
                  <a:pt x="739765" y="990597"/>
                </a:lnTo>
                <a:lnTo>
                  <a:pt x="457200" y="756746"/>
                </a:lnTo>
                <a:lnTo>
                  <a:pt x="174635" y="990597"/>
                </a:lnTo>
                <a:lnTo>
                  <a:pt x="282568" y="612222"/>
                </a:lnTo>
                <a:lnTo>
                  <a:pt x="1" y="378375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Times New Roman"/>
              </a:rPr>
              <a:t>Mary Wollstonecraft</a:t>
            </a:r>
            <a:br>
              <a:rPr sz="4000"/>
            </a:br>
            <a:r>
              <a:rPr b="0" lang="en-US" sz="4000" spc="-1" strike="noStrike">
                <a:solidFill>
                  <a:srgbClr val="ffcc00"/>
                </a:solidFill>
                <a:latin typeface="Times New Roman"/>
              </a:rPr>
              <a:t>England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434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  <a:ea typeface="Arial"/>
              </a:rPr>
              <a:t>Wrote</a:t>
            </a:r>
            <a:r>
              <a:rPr b="0" i="1" lang="en-US" sz="2800" spc="-1" strike="noStrike">
                <a:solidFill>
                  <a:srgbClr val="ffffcc"/>
                </a:solidFill>
                <a:latin typeface="Arial"/>
                <a:ea typeface="Arial"/>
              </a:rPr>
              <a:t> </a:t>
            </a:r>
            <a:r>
              <a:rPr b="0" i="1" lang="en-US" sz="2800" spc="-1" strike="noStrike">
                <a:solidFill>
                  <a:srgbClr val="00ffff"/>
                </a:solidFill>
                <a:latin typeface="Arial"/>
                <a:ea typeface="Arial"/>
              </a:rPr>
              <a:t>Vindication of the Rights of Women</a:t>
            </a:r>
            <a:r>
              <a:rPr b="0" i="1" lang="en-US" sz="2800" spc="-1" strike="noStrike">
                <a:solidFill>
                  <a:srgbClr val="ffffcc"/>
                </a:solidFill>
                <a:latin typeface="Arial"/>
                <a:ea typeface="Arial"/>
              </a:rPr>
              <a:t> -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  <a:ea typeface="Arial"/>
              </a:rPr>
              <a:t> attacked the educational restrictions that kept women in a state of "ignorance and slavish dependence." - described marriage as "legal prostitution“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  <a:ea typeface="Arial"/>
              </a:rPr>
              <a:t>Advocated women’s suffrage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73" name="Picture 4" descr="wollstonecraft"/>
          <p:cNvPicPr/>
          <p:nvPr/>
        </p:nvPicPr>
        <p:blipFill>
          <a:blip r:embed="rId1"/>
          <a:stretch/>
        </p:blipFill>
        <p:spPr>
          <a:xfrm>
            <a:off x="5486400" y="2057400"/>
            <a:ext cx="3352680" cy="39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Practice – June 2013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  <a:ea typeface="Arial"/>
              </a:rPr>
              <a:t>Which step did Catherine the Great take that is consistent with Enlightenment ideas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  <a:ea typeface="Arial"/>
              </a:rPr>
              <a:t>(1) ordering the burning of book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  <a:ea typeface="Arial"/>
              </a:rPr>
              <a:t>(2) strengthening the institution of serfdom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  <a:ea typeface="Arial"/>
              </a:rPr>
              <a:t>(3) expanding Russian territory into Ukrain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  <a:ea typeface="Arial"/>
              </a:rPr>
              <a:t>(4) considering a law code that would treat all citizens equall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4" descr="soiree"/>
          <p:cNvPicPr/>
          <p:nvPr/>
        </p:nvPicPr>
        <p:blipFill>
          <a:blip r:embed="rId1"/>
          <a:stretch/>
        </p:blipFill>
        <p:spPr>
          <a:xfrm>
            <a:off x="1828800" y="1905120"/>
            <a:ext cx="5330880" cy="347796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5"/>
          <p:cNvSpPr/>
          <p:nvPr/>
        </p:nvSpPr>
        <p:spPr>
          <a:xfrm>
            <a:off x="1127160" y="650880"/>
            <a:ext cx="7711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  <a:ea typeface="Arial"/>
              </a:rPr>
              <a:t>Philosophers came together at salons to discuss rights – some of the famous salons led by women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1295280" y="5562720"/>
            <a:ext cx="725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  <a:ea typeface="Arial"/>
              </a:rPr>
              <a:t>Based on picture what was the general economic status of these individuals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07" name="Picture 4" descr="http://upload.wikimedia.org/wikipedia/commons/c/cb/Salon_de_Madame_Geoffrin.jpg"/>
          <p:cNvPicPr/>
          <p:nvPr/>
        </p:nvPicPr>
        <p:blipFill>
          <a:blip r:embed="rId2"/>
          <a:stretch/>
        </p:blipFill>
        <p:spPr>
          <a:xfrm>
            <a:off x="1636560" y="1743120"/>
            <a:ext cx="5715000" cy="363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Impact of the Enlightenmen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Revolutions in Government – Glorious Revolution – 1688, American Revolution - 1776, French Revolution – 1789, etc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Bills of Rights Created – English Bill of Rights – 1688, American Bill of Rights – 1791, Declaration of Rights of Man  - 1789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bolition of Slavery – 1860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uffrage Movements (right to vote) – 1800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Practice Regents Jan 2014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  <a:ea typeface="Arial"/>
              </a:rPr>
              <a:t>Why is the Enlightenment considered a turning point in world history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  <a:ea typeface="Arial"/>
              </a:rPr>
              <a:t>(1) The factory system was used to mass-produc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  <a:ea typeface="Arial"/>
              </a:rPr>
              <a:t>good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  <a:ea typeface="Arial"/>
              </a:rPr>
              <a:t>(2) Martin Luther broke away from the Roma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  <a:ea typeface="Arial"/>
              </a:rPr>
              <a:t>Catholic Church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  <a:ea typeface="Arial"/>
              </a:rPr>
              <a:t>(3) Europeans changed their thinking about th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  <a:ea typeface="Arial"/>
              </a:rPr>
              <a:t>role of governmen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  <a:ea typeface="Arial"/>
              </a:rPr>
              <a:t>(4) The Columbian exchange occurred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Practice Regents 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  <a:ea typeface="Arial"/>
              </a:rPr>
              <a:t>During the Renaissance, humanist philosopher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  <a:ea typeface="Arial"/>
              </a:rPr>
              <a:t>emphasized the importance of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  <a:ea typeface="Arial"/>
              </a:rPr>
              <a:t>(1) individualism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  <a:ea typeface="Arial"/>
              </a:rPr>
              <a:t>(2) absolutism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  <a:ea typeface="Arial"/>
              </a:rPr>
              <a:t>(3) religious salvation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  <a:ea typeface="Arial"/>
              </a:rPr>
              <a:t>(4) technological advancement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16" descr="Thomas Hobbes"/>
          <p:cNvPicPr/>
          <p:nvPr/>
        </p:nvPicPr>
        <p:blipFill>
          <a:blip r:embed="rId1"/>
          <a:stretch/>
        </p:blipFill>
        <p:spPr>
          <a:xfrm>
            <a:off x="0" y="457200"/>
            <a:ext cx="5303880" cy="579132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Impact"/>
            </a:endParaRPr>
          </a:p>
        </p:txBody>
      </p:sp>
      <p:pic>
        <p:nvPicPr>
          <p:cNvPr id="115" name="Picture 5" descr="pounce"/>
          <p:cNvPicPr/>
          <p:nvPr/>
        </p:nvPicPr>
        <p:blipFill>
          <a:blip r:embed="rId2"/>
          <a:stretch/>
        </p:blipFill>
        <p:spPr>
          <a:xfrm>
            <a:off x="-1295280" y="237960"/>
            <a:ext cx="6619680" cy="662004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6"/>
          <p:cNvSpPr/>
          <p:nvPr/>
        </p:nvSpPr>
        <p:spPr>
          <a:xfrm>
            <a:off x="5410080" y="2895480"/>
            <a:ext cx="34419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People lead dangerous lives – they need </a:t>
            </a:r>
            <a:r>
              <a:rPr b="0" lang="en-US" sz="3200" spc="-1" strike="noStrike">
                <a:solidFill>
                  <a:srgbClr val="ffff9e"/>
                </a:solidFill>
                <a:latin typeface="Arial"/>
              </a:rPr>
              <a:t>absolute rulers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o protect them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Text Box 19"/>
          <p:cNvSpPr/>
          <p:nvPr/>
        </p:nvSpPr>
        <p:spPr>
          <a:xfrm>
            <a:off x="5568480" y="762120"/>
            <a:ext cx="3041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omas Hobbes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nglish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1588-1679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AutoShape 20"/>
          <p:cNvSpPr/>
          <p:nvPr/>
        </p:nvSpPr>
        <p:spPr>
          <a:xfrm>
            <a:off x="7772400" y="1600200"/>
            <a:ext cx="914400" cy="990720"/>
          </a:xfrm>
          <a:custGeom>
            <a:avLst/>
            <a:gdLst/>
            <a:ahLst/>
            <a:rect l="l" t="t" r="r" b="b"/>
            <a:pathLst>
              <a:path w="914400" h="990600">
                <a:moveTo>
                  <a:pt x="1" y="378375"/>
                </a:moveTo>
                <a:lnTo>
                  <a:pt x="349272" y="378377"/>
                </a:lnTo>
                <a:lnTo>
                  <a:pt x="457200" y="0"/>
                </a:lnTo>
                <a:lnTo>
                  <a:pt x="565128" y="378377"/>
                </a:lnTo>
                <a:lnTo>
                  <a:pt x="914399" y="378375"/>
                </a:lnTo>
                <a:lnTo>
                  <a:pt x="631832" y="612222"/>
                </a:lnTo>
                <a:lnTo>
                  <a:pt x="739765" y="990597"/>
                </a:lnTo>
                <a:lnTo>
                  <a:pt x="457200" y="756746"/>
                </a:lnTo>
                <a:lnTo>
                  <a:pt x="174635" y="990597"/>
                </a:lnTo>
                <a:lnTo>
                  <a:pt x="282568" y="612222"/>
                </a:lnTo>
                <a:lnTo>
                  <a:pt x="1" y="378375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00"/>
                </a:solidFill>
                <a:latin typeface="Impact"/>
              </a:rPr>
              <a:t>Hobbes (cont.)</a:t>
            </a:r>
            <a:endParaRPr b="0" lang="en-US" sz="4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Social Contract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– people naturally give up freedom for security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Absolute Monarchy is best government, but power comes from authority of people – </a:t>
            </a:r>
            <a:r>
              <a:rPr b="1" lang="en-US" sz="3200" spc="-1" strike="noStrike">
                <a:solidFill>
                  <a:srgbClr val="ffff9e"/>
                </a:solidFill>
                <a:latin typeface="Arial"/>
              </a:rPr>
              <a:t>not divine right</a:t>
            </a:r>
            <a:r>
              <a:rPr b="0" lang="en-US" sz="3200" spc="-1" strike="noStrike">
                <a:solidFill>
                  <a:srgbClr val="ffff9e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Wrote </a:t>
            </a:r>
            <a:r>
              <a:rPr b="0" i="1" lang="en-US" sz="3200" spc="-1" strike="noStrike">
                <a:solidFill>
                  <a:srgbClr val="ffff9e"/>
                </a:solidFill>
                <a:latin typeface="Arial"/>
              </a:rPr>
              <a:t>Leviatha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AutoShape 4"/>
          <p:cNvSpPr/>
          <p:nvPr/>
        </p:nvSpPr>
        <p:spPr>
          <a:xfrm>
            <a:off x="5562720" y="3505320"/>
            <a:ext cx="3276360" cy="2895480"/>
          </a:xfrm>
          <a:prstGeom prst="wedgeEllipseCallout">
            <a:avLst>
              <a:gd name="adj1" fmla="val -56490"/>
              <a:gd name="adj2" fmla="val -68203"/>
            </a:avLst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20011"/>
                </a:solidFill>
                <a:latin typeface="Arial"/>
              </a:rPr>
              <a:t>Do you agree?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2" name="Picture 9" descr="AG00528_"/>
          <p:cNvPicPr/>
          <p:nvPr/>
        </p:nvPicPr>
        <p:blipFill>
          <a:blip r:embed="rId1"/>
          <a:stretch/>
        </p:blipFill>
        <p:spPr>
          <a:xfrm>
            <a:off x="4572000" y="5362560"/>
            <a:ext cx="1295280" cy="117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4876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Impact"/>
              </a:rPr>
              <a:t>John Locke</a:t>
            </a:r>
            <a:br>
              <a:rPr sz="4000"/>
            </a:br>
            <a:r>
              <a:rPr b="0" lang="en-US" sz="4000" spc="-1" strike="noStrike">
                <a:solidFill>
                  <a:srgbClr val="ffcc00"/>
                </a:solidFill>
                <a:latin typeface="Impact"/>
              </a:rPr>
              <a:t>(1632-1704)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952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Babies born without ideas or personality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haped by their environment (school, family, and government)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5" name="Picture 11" descr="j0219098"/>
          <p:cNvPicPr/>
          <p:nvPr/>
        </p:nvPicPr>
        <p:blipFill>
          <a:blip r:embed="rId1"/>
          <a:stretch/>
        </p:blipFill>
        <p:spPr>
          <a:xfrm>
            <a:off x="7772400" y="3657600"/>
            <a:ext cx="1095480" cy="12668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5" descr="3D animated combination lock padlock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09480" y="4724280"/>
            <a:ext cx="1198800" cy="144792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8"/>
          <p:cNvSpPr/>
          <p:nvPr/>
        </p:nvSpPr>
        <p:spPr>
          <a:xfrm>
            <a:off x="2590920" y="4495680"/>
            <a:ext cx="565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9e"/>
                </a:solidFill>
                <a:latin typeface="Arial"/>
              </a:rPr>
              <a:t>Natural Rights – life, liberty, and property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.  (Government must protect these rights)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8" name="AutoShape 9"/>
          <p:cNvSpPr/>
          <p:nvPr/>
        </p:nvSpPr>
        <p:spPr>
          <a:xfrm>
            <a:off x="5486400" y="5257800"/>
            <a:ext cx="3886200" cy="1600200"/>
          </a:xfrm>
          <a:prstGeom prst="cloudCallout">
            <a:avLst>
              <a:gd name="adj1" fmla="val -67726"/>
              <a:gd name="adj2" fmla="val -41569"/>
            </a:avLst>
          </a:prstGeom>
          <a:solidFill>
            <a:srgbClr val="ffc2f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0011"/>
                </a:solidFill>
                <a:latin typeface="Arial"/>
              </a:rPr>
              <a:t>Who read Locke and were inspired by him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9" name="Picture 13" descr="John Locke"/>
          <p:cNvPicPr/>
          <p:nvPr/>
        </p:nvPicPr>
        <p:blipFill>
          <a:blip r:embed="rId4"/>
          <a:srcRect l="0" t="0" r="1727" b="1732"/>
          <a:stretch/>
        </p:blipFill>
        <p:spPr>
          <a:xfrm>
            <a:off x="5905440" y="304920"/>
            <a:ext cx="2286000" cy="304776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15"/>
          <p:cNvSpPr/>
          <p:nvPr/>
        </p:nvSpPr>
        <p:spPr>
          <a:xfrm>
            <a:off x="2209680" y="5867280"/>
            <a:ext cx="2819520" cy="99072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Book – Two Treati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on Governmen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1" name="AutoShape 16"/>
          <p:cNvSpPr/>
          <p:nvPr/>
        </p:nvSpPr>
        <p:spPr>
          <a:xfrm>
            <a:off x="685800" y="609480"/>
            <a:ext cx="914400" cy="990720"/>
          </a:xfrm>
          <a:custGeom>
            <a:avLst/>
            <a:gdLst/>
            <a:ahLst/>
            <a:rect l="l" t="t" r="r" b="b"/>
            <a:pathLst>
              <a:path w="914400" h="990600">
                <a:moveTo>
                  <a:pt x="1" y="378375"/>
                </a:moveTo>
                <a:lnTo>
                  <a:pt x="349272" y="378377"/>
                </a:lnTo>
                <a:lnTo>
                  <a:pt x="457200" y="0"/>
                </a:lnTo>
                <a:lnTo>
                  <a:pt x="565128" y="378377"/>
                </a:lnTo>
                <a:lnTo>
                  <a:pt x="914399" y="378375"/>
                </a:lnTo>
                <a:lnTo>
                  <a:pt x="631832" y="612222"/>
                </a:lnTo>
                <a:lnTo>
                  <a:pt x="739765" y="990597"/>
                </a:lnTo>
                <a:lnTo>
                  <a:pt x="457200" y="756746"/>
                </a:lnTo>
                <a:lnTo>
                  <a:pt x="174635" y="990597"/>
                </a:lnTo>
                <a:lnTo>
                  <a:pt x="282568" y="612222"/>
                </a:lnTo>
                <a:lnTo>
                  <a:pt x="1" y="378375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2" name="AutoShape 17"/>
          <p:cNvSpPr/>
          <p:nvPr/>
        </p:nvSpPr>
        <p:spPr>
          <a:xfrm>
            <a:off x="152280" y="152280"/>
            <a:ext cx="914400" cy="990720"/>
          </a:xfrm>
          <a:custGeom>
            <a:avLst/>
            <a:gdLst/>
            <a:ahLst/>
            <a:rect l="l" t="t" r="r" b="b"/>
            <a:pathLst>
              <a:path w="914400" h="990600">
                <a:moveTo>
                  <a:pt x="1" y="378375"/>
                </a:moveTo>
                <a:lnTo>
                  <a:pt x="349272" y="378377"/>
                </a:lnTo>
                <a:lnTo>
                  <a:pt x="457200" y="0"/>
                </a:lnTo>
                <a:lnTo>
                  <a:pt x="565128" y="378377"/>
                </a:lnTo>
                <a:lnTo>
                  <a:pt x="914399" y="378375"/>
                </a:lnTo>
                <a:lnTo>
                  <a:pt x="631832" y="612222"/>
                </a:lnTo>
                <a:lnTo>
                  <a:pt x="739765" y="990597"/>
                </a:lnTo>
                <a:lnTo>
                  <a:pt x="457200" y="756746"/>
                </a:lnTo>
                <a:lnTo>
                  <a:pt x="174635" y="990597"/>
                </a:lnTo>
                <a:lnTo>
                  <a:pt x="282568" y="612222"/>
                </a:lnTo>
                <a:lnTo>
                  <a:pt x="1" y="378375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"/>
          <p:cNvPicPr/>
          <p:nvPr/>
        </p:nvPicPr>
        <p:blipFill>
          <a:blip r:embed="rId1"/>
          <a:stretch/>
        </p:blipFill>
        <p:spPr>
          <a:xfrm>
            <a:off x="409680" y="417600"/>
            <a:ext cx="8713800" cy="551484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1"/>
          <p:cNvSpPr/>
          <p:nvPr/>
        </p:nvSpPr>
        <p:spPr>
          <a:xfrm>
            <a:off x="914400" y="5691240"/>
            <a:ext cx="1600200" cy="228600"/>
          </a:xfrm>
          <a:prstGeom prst="rect">
            <a:avLst/>
          </a:prstGeom>
          <a:noFill/>
          <a:ln w="9360">
            <a:solidFill>
              <a:srgbClr val="4d002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6858000" y="5464080"/>
            <a:ext cx="1600200" cy="228600"/>
          </a:xfrm>
          <a:prstGeom prst="rect">
            <a:avLst/>
          </a:prstGeom>
          <a:noFill/>
          <a:ln w="9360">
            <a:solidFill>
              <a:srgbClr val="4d002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6" name="5-Point Star 2"/>
          <p:cNvSpPr/>
          <p:nvPr/>
        </p:nvSpPr>
        <p:spPr>
          <a:xfrm>
            <a:off x="8458200" y="5029200"/>
            <a:ext cx="665280" cy="549360"/>
          </a:xfrm>
          <a:custGeom>
            <a:avLst/>
            <a:gdLst/>
            <a:ahLst/>
            <a:rect l="l" t="t" r="r" b="b"/>
            <a:pathLst>
              <a:path w="665328" h="548754">
                <a:moveTo>
                  <a:pt x="1" y="209605"/>
                </a:moveTo>
                <a:lnTo>
                  <a:pt x="254134" y="209606"/>
                </a:lnTo>
                <a:lnTo>
                  <a:pt x="332664" y="0"/>
                </a:lnTo>
                <a:lnTo>
                  <a:pt x="411194" y="209606"/>
                </a:lnTo>
                <a:lnTo>
                  <a:pt x="665327" y="209605"/>
                </a:lnTo>
                <a:lnTo>
                  <a:pt x="459728" y="339147"/>
                </a:lnTo>
                <a:lnTo>
                  <a:pt x="538261" y="548753"/>
                </a:lnTo>
                <a:lnTo>
                  <a:pt x="332664" y="419208"/>
                </a:lnTo>
                <a:lnTo>
                  <a:pt x="127067" y="548753"/>
                </a:lnTo>
                <a:lnTo>
                  <a:pt x="205600" y="339147"/>
                </a:lnTo>
                <a:lnTo>
                  <a:pt x="1" y="209605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7" name="Rounded Rectangular Callout 4"/>
          <p:cNvSpPr/>
          <p:nvPr/>
        </p:nvSpPr>
        <p:spPr>
          <a:xfrm>
            <a:off x="6400800" y="228600"/>
            <a:ext cx="2057400" cy="990720"/>
          </a:xfrm>
          <a:prstGeom prst="wedgeRoundRectCallout">
            <a:avLst>
              <a:gd name="adj1" fmla="val -20833"/>
              <a:gd name="adj2" fmla="val 62500"/>
              <a:gd name="adj3" fmla="val 16667"/>
            </a:avLst>
          </a:prstGeom>
          <a:solidFill>
            <a:srgbClr val="cc0099"/>
          </a:solidFill>
          <a:ln w="936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January 2014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Practice – August 2013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  <a:ea typeface="Arial"/>
              </a:rPr>
              <a:t>• 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  <a:ea typeface="Arial"/>
              </a:rPr>
              <a:t>Supported reform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  <a:ea typeface="Arial"/>
              </a:rPr>
              <a:t>• 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  <a:ea typeface="Arial"/>
              </a:rPr>
              <a:t>Believed in natural rights and religious tolerat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  <a:ea typeface="Arial"/>
              </a:rPr>
              <a:t>• 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  <a:ea typeface="Arial"/>
              </a:rPr>
              <a:t>Viewed themselves as servants of their stat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  <a:ea typeface="Arial"/>
              </a:rPr>
              <a:t>In the 18th century, European leaders that fi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  <a:ea typeface="Arial"/>
              </a:rPr>
              <a:t>these characteristics were best known 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  <a:ea typeface="Arial"/>
              </a:rPr>
              <a:t>(1) theocratic monarch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  <a:ea typeface="Arial"/>
              </a:rPr>
              <a:t>(2) enlightened despot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  <a:ea typeface="Arial"/>
              </a:rPr>
              <a:t>(3) totalitarian dictator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  <a:ea typeface="Arial"/>
              </a:rPr>
              <a:t>(4) prime minister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30T23:57:59Z</dcterms:created>
  <dc:creator>Anne Jean Lyons</dc:creator>
  <dc:description/>
  <dc:language>en-US</dc:language>
  <cp:lastModifiedBy>Windows User</cp:lastModifiedBy>
  <dcterms:modified xsi:type="dcterms:W3CDTF">2014-05-13T14:02:25Z</dcterms:modified>
  <cp:revision>41</cp:revision>
  <dc:subject/>
  <dc:title>PowerPoint Presentation</dc:title>
</cp:coreProperties>
</file>